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00670"/>
        <c:axId val="95893993"/>
      </c:barChart>
      <c:catAx>
        <c:axId val="2910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3993"/>
        <c:crosses val="autoZero"/>
        <c:auto val="1"/>
        <c:lblAlgn val="ctr"/>
        <c:lblOffset val="100"/>
        <c:noMultiLvlLbl val="0"/>
      </c:catAx>
      <c:valAx>
        <c:axId val="9589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4FF-14F9-435A-B56F-B8FF59A4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6C1-0A9F-4DD3-B7A4-F7850D7E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876-814C-4097-BA0B-92E8DB6D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C26-EDCC-4C33-90CB-FBE06695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6D4-4383-4BB1-BA32-E9C2DE5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F2D-4645-40D6-B3F5-0AA486BE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DAB-751F-4553-AE3F-52DDFE9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6B2-E0E6-4CBB-A3B9-CACC570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6E5-B2B5-477E-A544-A76A3DFA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D19-0899-4EA7-B63C-31126AF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BF6-1617-47E0-B4A2-FB3A24F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931-F6F1-4179-B7CC-550B825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9417-566C-4875-93B0-1AAF32C01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