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873420"/>
        <c:axId val="53988351"/>
      </c:barChart>
      <c:catAx>
        <c:axId val="558734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988351"/>
        <c:crosses val="autoZero"/>
        <c:auto val="1"/>
        <c:lblAlgn val="ctr"/>
        <c:lblOffset val="100"/>
        <c:noMultiLvlLbl val="0"/>
      </c:catAx>
      <c:valAx>
        <c:axId val="539883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8734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6C5C-DCE8-41E5-9F45-EDB62F138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A705-8E7F-4A1B-9CE4-836D16529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D671-31D9-4BF3-9EAB-19B135883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729E-19B8-4B0C-9FAF-6870BFFDA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9CF6-C656-4648-9CD6-36D749D0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8698-C615-4624-A9E1-BF831D0DC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13DA-157C-4A94-97C6-6F6EE359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B7A6-CCFD-40CC-B77E-4BCE78CE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7606-3FB2-4089-B862-D2F4EF9DF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4565-A4ED-4717-AC80-FA950E43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F05C-1615-4377-9BF8-E599CB67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21C7-D9C9-473E-8E61-FEFDE04CB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95BE9-E389-4EE0-8438-23D223DC22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