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6.xml.rels" ContentType="application/vnd.openxmlformats-package.relationships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4.wmf" ContentType="image/x-wmf"/>
  <Override PartName="/ppt/media/image1.wmf" ContentType="image/x-wmf"/>
  <Override PartName="/ppt/media/image2.png" ContentType="image/png"/>
  <Override PartName="/ppt/media/image4.bmp" ContentType="image/bmp"/>
  <Override PartName="/ppt/media/image3.bmp" ContentType="image/bmp"/>
  <Override PartName="/ppt/media/image7.png" ContentType="image/png"/>
  <Override PartName="/ppt/media/image12.png" ContentType="image/png"/>
  <Override PartName="/ppt/media/image8.png" ContentType="image/png"/>
  <Override PartName="/ppt/media/image9.png" ContentType="image/png"/>
  <Override PartName="/ppt/media/image13.wmf" ContentType="image/x-wmf"/>
  <Override PartName="/ppt/media/image5.bmp" ContentType="image/bmp"/>
  <Override PartName="/ppt/media/image10.png" ContentType="image/png"/>
  <Override PartName="/ppt/media/image11.png" ContentType="image/png"/>
  <Override PartName="/ppt/media/image6.bmp" ContentType="image/bmp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</p:sldIdLst>
  <p:sldSz cx="9418638" cy="685800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sldImg"/>
          </p:nvPr>
        </p:nvSpPr>
        <p:spPr>
          <a:xfrm>
            <a:off x="216000" y="812520"/>
            <a:ext cx="7127280" cy="400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 type="body"/>
          </p:nvPr>
        </p:nvSpPr>
        <p:spPr>
          <a:xfrm>
            <a:off x="756000" y="5078520"/>
            <a:ext cx="6047640" cy="481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buNone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 type="dt" idx="1"/>
          </p:nvPr>
        </p:nvSpPr>
        <p:spPr>
          <a:xfrm>
            <a:off x="4278960" y="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 type="ftr" idx="2"/>
          </p:nvPr>
        </p:nvSpPr>
        <p:spPr>
          <a:xfrm>
            <a:off x="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 type="sldNum" idx="3"/>
          </p:nvPr>
        </p:nvSpPr>
        <p:spPr>
          <a:xfrm>
            <a:off x="4278960" y="10157400"/>
            <a:ext cx="3280680" cy="534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buNone/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</a:pPr>
            <a:fld id="{9648B21F-5840-4A15-B841-916FA801DAA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371600" y="768240"/>
            <a:ext cx="5029200" cy="37674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777240" y="4773240"/>
            <a:ext cx="6217920" cy="4526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100000"/>
              </a:lnSpc>
              <a:spcBef>
                <a:spcPts val="720"/>
              </a:spcBef>
              <a:buNone/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 nouvelle note est ic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333684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6202800" y="160452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7088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6"/>
          <p:cNvSpPr>
            <a:spLocks noGrp="1"/>
          </p:cNvSpPr>
          <p:nvPr>
            <p:ph/>
          </p:nvPr>
        </p:nvSpPr>
        <p:spPr>
          <a:xfrm>
            <a:off x="333684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7"/>
          <p:cNvSpPr>
            <a:spLocks noGrp="1"/>
          </p:cNvSpPr>
          <p:nvPr>
            <p:ph/>
          </p:nvPr>
        </p:nvSpPr>
        <p:spPr>
          <a:xfrm>
            <a:off x="6202800" y="3682080"/>
            <a:ext cx="272916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70880" y="273600"/>
            <a:ext cx="847620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/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814280" y="368208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708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14280" y="1604520"/>
            <a:ext cx="41360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0880" y="3682080"/>
            <a:ext cx="84762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417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470880" y="273600"/>
            <a:ext cx="847620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body"/>
          </p:nvPr>
        </p:nvSpPr>
        <p:spPr>
          <a:xfrm>
            <a:off x="470880" y="1604520"/>
            <a:ext cx="84762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2000" indent="-324000">
              <a:spcBef>
                <a:spcPts val="1417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4000" indent="-324000">
              <a:spcBef>
                <a:spcPts val="1134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1296000" indent="-288000">
              <a:spcBef>
                <a:spcPts val="850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728000" indent="-216000">
              <a:spcBef>
                <a:spcPts val="567"/>
              </a:spcBef>
              <a:buClr>
                <a:srgbClr val="000000"/>
              </a:buClr>
              <a:buSzPct val="75000"/>
              <a:buFont typeface="Symbol" charset="2"/>
              <a:buChar char="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160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592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3024000" indent="-216000">
              <a:spcBef>
                <a:spcPts val="283"/>
              </a:spcBef>
              <a:buClr>
                <a:srgbClr val="000000"/>
              </a:buClr>
              <a:buSzPct val="45000"/>
              <a:buFont typeface="Wingdings" charset="2"/>
              <a:buChar char=""/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image" Target="../media/image3.bmp"/><Relationship Id="rId4" Type="http://schemas.openxmlformats.org/officeDocument/2006/relationships/image" Target="../media/image4.bmp"/><Relationship Id="rId5" Type="http://schemas.openxmlformats.org/officeDocument/2006/relationships/image" Target="../media/image5.bmp"/><Relationship Id="rId6" Type="http://schemas.openxmlformats.org/officeDocument/2006/relationships/image" Target="../media/image6.bmp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image" Target="../media/image9.png"/><Relationship Id="rId4" Type="http://schemas.openxmlformats.org/officeDocument/2006/relationships/image" Target="../media/image10.png"/><Relationship Id="rId5" Type="http://schemas.openxmlformats.org/officeDocument/2006/relationships/image" Target="../media/image11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3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418680" cy="6858000"/>
          </a:xfrm>
          <a:prstGeom prst="rect">
            <a:avLst/>
          </a:prstGeom>
          <a:ln w="0">
            <a:noFill/>
          </a:ln>
        </p:spPr>
      </p:pic>
      <p:sp>
        <p:nvSpPr>
          <p:cNvPr id="84" name=""/>
          <p:cNvSpPr/>
          <p:nvPr/>
        </p:nvSpPr>
        <p:spPr>
          <a:xfrm flipV="1">
            <a:off x="704880" y="609480"/>
            <a:ext cx="1177920" cy="3812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861840" y="762120"/>
            <a:ext cx="1177920" cy="380880"/>
          </a:xfrm>
          <a:prstGeom prst="line">
            <a:avLst/>
          </a:prstGeom>
          <a:ln w="255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2600" rIns="102600" tIns="57600" bIns="576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flipV="1">
            <a:off x="1019160" y="914400"/>
            <a:ext cx="1177920" cy="380880"/>
          </a:xfrm>
          <a:prstGeom prst="line">
            <a:avLst/>
          </a:prstGeom>
          <a:ln w="38160">
            <a:solidFill>
              <a:srgbClr val="f8bc7a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1176480" y="10666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custDash>
              <a:ds d="100000" sp="100000"/>
            </a:custDash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flipV="1">
            <a:off x="1333440" y="1219320"/>
            <a:ext cx="1177920" cy="380880"/>
          </a:xfrm>
          <a:prstGeom prst="line">
            <a:avLst/>
          </a:prstGeom>
          <a:ln w="101520">
            <a:solidFill>
              <a:srgbClr val="3333cc"/>
            </a:solidFill>
            <a:custDash>
              <a:ds d="200000" sp="200000"/>
            </a:custDash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40760" rIns="140760" tIns="95760" bIns="957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V="1">
            <a:off x="1490760" y="1371600"/>
            <a:ext cx="1177920" cy="380880"/>
          </a:xfrm>
          <a:prstGeom prst="line">
            <a:avLst/>
          </a:prstGeom>
          <a:ln w="127080">
            <a:solidFill>
              <a:srgbClr val="ccccff"/>
            </a:solidFill>
            <a:custDash>
              <a:ds d="200000" sp="200000"/>
              <a:ds d="100000" sp="200000"/>
            </a:custDash>
            <a:round/>
          </a:ln>
        </p:spPr>
        <p:style>
          <a:lnRef idx="0"/>
          <a:fillRef idx="0"/>
          <a:effectRef idx="0"/>
          <a:fontRef idx="minor"/>
        </p:style>
        <p:txBody>
          <a:bodyPr lIns="153360" rIns="153360" tIns="108360" bIns="108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1647720" y="1523880"/>
            <a:ext cx="1176480" cy="381240"/>
          </a:xfrm>
          <a:prstGeom prst="line">
            <a:avLst/>
          </a:prstGeom>
          <a:ln w="381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09080" rIns="109080" tIns="64080" bIns="64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1805040" y="1676520"/>
            <a:ext cx="1176120" cy="380880"/>
          </a:xfrm>
          <a:prstGeom prst="line">
            <a:avLst/>
          </a:prstGeom>
          <a:ln w="5076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962000" y="1828800"/>
            <a:ext cx="1176480" cy="38088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 flipV="1">
            <a:off x="2117880" y="1981080"/>
            <a:ext cx="1177920" cy="381240"/>
          </a:xfrm>
          <a:prstGeom prst="line">
            <a:avLst/>
          </a:prstGeom>
          <a:ln w="76320">
            <a:solidFill>
              <a:srgbClr val="000000"/>
            </a:solidFill>
            <a:round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 flipV="1">
            <a:off x="2274840" y="2133720"/>
            <a:ext cx="1177920" cy="38088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4394160" y="457200"/>
            <a:ext cx="785880" cy="457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5572080" y="380880"/>
            <a:ext cx="1020600" cy="762120"/>
          </a:xfrm>
          <a:prstGeom prst="rect">
            <a:avLst/>
          </a:prstGeom>
          <a:noFill/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905520" y="457200"/>
            <a:ext cx="1020600" cy="762120"/>
          </a:xfrm>
          <a:prstGeom prst="rect">
            <a:avLst/>
          </a:prstGeom>
          <a:solidFill>
            <a:srgbClr val="3333cc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8161200" y="380880"/>
            <a:ext cx="102060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1371600"/>
            <a:ext cx="1020600" cy="762120"/>
          </a:xfrm>
          <a:prstGeom prst="rect">
            <a:avLst/>
          </a:prstGeom>
          <a:blipFill rotWithShape="0">
            <a:blip r:embed="rId3"/>
            <a:tile tx="0" ty="0" sx="133350" sy="133249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5492880" y="1600200"/>
            <a:ext cx="1569960" cy="5335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7377120" y="1676520"/>
            <a:ext cx="1413000" cy="4572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8318520" y="3962520"/>
            <a:ext cx="863640" cy="380880"/>
          </a:xfrm>
          <a:prstGeom prst="rect">
            <a:avLst/>
          </a:prstGeom>
          <a:blipFill rotWithShape="0">
            <a:blip r:embed="rId4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627120" y="5943600"/>
            <a:ext cx="1098720" cy="45720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966680" y="5730120"/>
            <a:ext cx="775800" cy="1189440"/>
          </a:xfrm>
          <a:custGeom>
            <a:avLst/>
            <a:gdLst/>
            <a:ahLst/>
            <a:rect l="0" t="0" r="r" b="b"/>
            <a:pathLst>
              <a:path w="2155" h="3304">
                <a:moveTo>
                  <a:pt x="0" y="2911"/>
                </a:moveTo>
                <a:lnTo>
                  <a:pt x="1208" y="3304"/>
                </a:lnTo>
                <a:lnTo>
                  <a:pt x="2155" y="392"/>
                </a:lnTo>
                <a:lnTo>
                  <a:pt x="946" y="0"/>
                </a:lnTo>
                <a:lnTo>
                  <a:pt x="0" y="2911"/>
                </a:lnTo>
                <a:close/>
              </a:path>
            </a:pathLst>
          </a:custGeom>
          <a:gradFill rotWithShape="0">
            <a:gsLst>
              <a:gs pos="0">
                <a:srgbClr val="fff8dc"/>
              </a:gs>
              <a:gs pos="100000">
                <a:srgbClr val="bf8f8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903400" y="6248520"/>
            <a:ext cx="1098720" cy="457200"/>
          </a:xfrm>
          <a:prstGeom prst="rect">
            <a:avLst/>
          </a:prstGeom>
          <a:blipFill rotWithShape="0">
            <a:blip r:embed="rId5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159080" y="6326280"/>
            <a:ext cx="1098720" cy="457200"/>
          </a:xfrm>
          <a:prstGeom prst="rect">
            <a:avLst/>
          </a:prstGeom>
          <a:blipFill rotWithShape="0">
            <a:blip r:embed="rId6"/>
            <a:tile tx="0" ty="0" sx="3528125" sy="3528125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5886360" y="6172200"/>
            <a:ext cx="706680" cy="457560"/>
          </a:xfrm>
          <a:custGeom>
            <a:avLst/>
            <a:gdLst/>
            <a:ahLst/>
            <a:rect l="0" t="0" r="r" b="b"/>
            <a:pathLst>
              <a:path w="1963" h="1271">
                <a:moveTo>
                  <a:pt x="1963" y="127"/>
                </a:moveTo>
                <a:lnTo>
                  <a:pt x="1963" y="1016"/>
                </a:lnTo>
                <a:lnTo>
                  <a:pt x="1767" y="1144"/>
                </a:lnTo>
                <a:lnTo>
                  <a:pt x="1570" y="1144"/>
                </a:lnTo>
                <a:lnTo>
                  <a:pt x="1767" y="1271"/>
                </a:lnTo>
                <a:lnTo>
                  <a:pt x="1374" y="1144"/>
                </a:lnTo>
                <a:lnTo>
                  <a:pt x="196" y="1144"/>
                </a:lnTo>
                <a:lnTo>
                  <a:pt x="0" y="1016"/>
                </a:lnTo>
                <a:lnTo>
                  <a:pt x="0" y="127"/>
                </a:lnTo>
                <a:lnTo>
                  <a:pt x="196" y="0"/>
                </a:lnTo>
                <a:lnTo>
                  <a:pt x="1767" y="0"/>
                </a:lnTo>
                <a:lnTo>
                  <a:pt x="1963" y="127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7062840" y="6172200"/>
            <a:ext cx="864000" cy="381240"/>
          </a:xfrm>
          <a:custGeom>
            <a:avLst/>
            <a:gdLst/>
            <a:ahLst/>
            <a:rect l="0" t="0" r="r" b="b"/>
            <a:pathLst>
              <a:path w="2400" h="1059">
                <a:moveTo>
                  <a:pt x="0" y="953"/>
                </a:moveTo>
                <a:lnTo>
                  <a:pt x="0" y="211"/>
                </a:lnTo>
                <a:lnTo>
                  <a:pt x="239" y="105"/>
                </a:lnTo>
                <a:lnTo>
                  <a:pt x="479" y="105"/>
                </a:lnTo>
                <a:lnTo>
                  <a:pt x="239" y="0"/>
                </a:lnTo>
                <a:lnTo>
                  <a:pt x="720" y="105"/>
                </a:lnTo>
                <a:lnTo>
                  <a:pt x="2161" y="105"/>
                </a:lnTo>
                <a:lnTo>
                  <a:pt x="2400" y="211"/>
                </a:lnTo>
                <a:lnTo>
                  <a:pt x="2400" y="953"/>
                </a:lnTo>
                <a:lnTo>
                  <a:pt x="2161" y="1059"/>
                </a:lnTo>
                <a:lnTo>
                  <a:pt x="239" y="1059"/>
                </a:lnTo>
                <a:lnTo>
                  <a:pt x="0" y="953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418680" cy="6858000"/>
          </a:xfrm>
          <a:prstGeom prst="rect">
            <a:avLst/>
          </a:prstGeom>
          <a:solidFill>
            <a:srgbClr val="f8bc7a"/>
          </a:solidFill>
          <a:ln w="0">
            <a:noFill/>
          </a:ln>
        </p:spPr>
        <p:txBody>
          <a:bodyPr lIns="90000" rIns="90000" tIns="45000" bIns="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4413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96524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413160" y="30492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50000">
                <a:srgbClr val="ffffff"/>
              </a:gs>
              <a:gs pos="100000">
                <a:srgbClr val="00cc99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49370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50000">
                <a:srgbClr val="00cc99"/>
              </a:gs>
              <a:gs pos="100000">
                <a:srgbClr val="ffffff"/>
              </a:gs>
            </a:gsLst>
            <a:lin ang="54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6308640" y="3808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176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181296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lin ang="81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489480" y="114300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0" t="0" r="100000" b="10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86108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cc99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84960" y="1295280"/>
            <a:ext cx="1219320" cy="762120"/>
          </a:xfrm>
          <a:prstGeom prst="rect">
            <a:avLst/>
          </a:prstGeom>
          <a:gradFill rotWithShape="0">
            <a:gsLst>
              <a:gs pos="0">
                <a:srgbClr val="0000ff"/>
              </a:gs>
              <a:gs pos="100000">
                <a:srgbClr val="000080"/>
              </a:gs>
            </a:gsLst>
            <a:lin ang="2700000"/>
          </a:gra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746280" y="2057400"/>
            <a:ext cx="1219320" cy="762120"/>
          </a:xfrm>
          <a:prstGeom prst="rect">
            <a:avLst/>
          </a:prstGeom>
          <a:blipFill rotWithShape="0">
            <a:blip r:embed="rId1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2117880" y="1981080"/>
            <a:ext cx="1219320" cy="762120"/>
          </a:xfrm>
          <a:prstGeom prst="rect">
            <a:avLst/>
          </a:prstGeom>
          <a:blipFill rotWithShape="0">
            <a:blip r:embed="rId2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3565440" y="1981080"/>
            <a:ext cx="1219320" cy="762120"/>
          </a:xfrm>
          <a:prstGeom prst="rect">
            <a:avLst/>
          </a:prstGeom>
          <a:blipFill rotWithShape="0">
            <a:blip r:embed="rId3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013360" y="2209680"/>
            <a:ext cx="1219320" cy="762120"/>
          </a:xfrm>
          <a:prstGeom prst="rect">
            <a:avLst/>
          </a:prstGeom>
          <a:blipFill rotWithShape="0">
            <a:blip r:embed="rId4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6156360" y="2209680"/>
            <a:ext cx="1219320" cy="762120"/>
          </a:xfrm>
          <a:prstGeom prst="rect">
            <a:avLst/>
          </a:prstGeom>
          <a:blipFill rotWithShape="0">
            <a:blip r:embed="rId5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593640" y="3048120"/>
            <a:ext cx="1219320" cy="762120"/>
          </a:xfrm>
          <a:prstGeom prst="rect">
            <a:avLst/>
          </a:prstGeom>
          <a:blipFill rotWithShape="0">
            <a:blip r:embed="rId6"/>
            <a:tile tx="0" ty="0" sx="133018" sy="133018" algn="ctr"/>
          </a:blip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>
            <a:off x="822240" y="581760"/>
            <a:ext cx="686520" cy="1094760"/>
          </a:xfrm>
          <a:custGeom>
            <a:avLst/>
            <a:gdLst/>
            <a:ahLst/>
            <a:rect l="0" t="0" r="r" b="b"/>
            <a:pathLst>
              <a:path fill="none" w="1907" h="3041">
                <a:moveTo>
                  <a:pt x="0" y="3041"/>
                </a:moveTo>
                <a:lnTo>
                  <a:pt x="0" y="3041"/>
                </a:lnTo>
                <a:cubicBezTo>
                  <a:pt x="335" y="3041"/>
                  <a:pt x="664" y="2963"/>
                  <a:pt x="953" y="2814"/>
                </a:cubicBezTo>
                <a:cubicBezTo>
                  <a:pt x="1243" y="2665"/>
                  <a:pt x="1484" y="2452"/>
                  <a:pt x="1651" y="2194"/>
                </a:cubicBezTo>
                <a:cubicBezTo>
                  <a:pt x="1819" y="1937"/>
                  <a:pt x="1907" y="1645"/>
                  <a:pt x="1907" y="1347"/>
                </a:cubicBezTo>
                <a:cubicBezTo>
                  <a:pt x="1907" y="1050"/>
                  <a:pt x="1819" y="758"/>
                  <a:pt x="1651" y="501"/>
                </a:cubicBezTo>
                <a:cubicBezTo>
                  <a:pt x="1525" y="306"/>
                  <a:pt x="1356" y="136"/>
                  <a:pt x="1155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889280" y="1066680"/>
            <a:ext cx="686160" cy="609840"/>
          </a:xfrm>
          <a:custGeom>
            <a:avLst/>
            <a:gdLst/>
            <a:ahLst/>
            <a:rect l="0" t="0" r="r" b="b"/>
            <a:pathLst>
              <a:path fill="none" w="1906" h="1694">
                <a:moveTo>
                  <a:pt x="0" y="1694"/>
                </a:moveTo>
                <a:lnTo>
                  <a:pt x="0" y="1694"/>
                </a:lnTo>
                <a:cubicBezTo>
                  <a:pt x="335" y="1694"/>
                  <a:pt x="663" y="1616"/>
                  <a:pt x="953" y="1467"/>
                </a:cubicBezTo>
                <a:cubicBezTo>
                  <a:pt x="1243" y="1318"/>
                  <a:pt x="1483" y="1105"/>
                  <a:pt x="1651" y="847"/>
                </a:cubicBezTo>
                <a:cubicBezTo>
                  <a:pt x="1818" y="589"/>
                  <a:pt x="1906" y="297"/>
                  <a:pt x="1906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2955960" y="1149120"/>
            <a:ext cx="679680" cy="527760"/>
          </a:xfrm>
          <a:custGeom>
            <a:avLst/>
            <a:gdLst/>
            <a:ahLst/>
            <a:rect l="0" t="0" r="r" b="b"/>
            <a:pathLst>
              <a:path fill="none" w="1888" h="1466">
                <a:moveTo>
                  <a:pt x="0" y="1466"/>
                </a:moveTo>
                <a:lnTo>
                  <a:pt x="0" y="1466"/>
                </a:lnTo>
                <a:cubicBezTo>
                  <a:pt x="334" y="1466"/>
                  <a:pt x="663" y="1388"/>
                  <a:pt x="953" y="1239"/>
                </a:cubicBezTo>
                <a:cubicBezTo>
                  <a:pt x="1242" y="1090"/>
                  <a:pt x="1483" y="876"/>
                  <a:pt x="1650" y="618"/>
                </a:cubicBezTo>
                <a:cubicBezTo>
                  <a:pt x="1774" y="428"/>
                  <a:pt x="1855" y="218"/>
                  <a:pt x="1888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336840" y="533520"/>
            <a:ext cx="1371960" cy="1219680"/>
          </a:xfrm>
          <a:custGeom>
            <a:avLst/>
            <a:gdLst/>
            <a:ahLst/>
            <a:rect l="0" t="0" r="r" b="b"/>
            <a:pathLst>
              <a:path fill="none" w="3811" h="3388">
                <a:moveTo>
                  <a:pt x="2560" y="103"/>
                </a:moveTo>
                <a:lnTo>
                  <a:pt x="2560" y="103"/>
                </a:lnTo>
                <a:cubicBezTo>
                  <a:pt x="2350" y="35"/>
                  <a:pt x="2129" y="0"/>
                  <a:pt x="1906" y="0"/>
                </a:cubicBezTo>
                <a:cubicBezTo>
                  <a:pt x="1571" y="0"/>
                  <a:pt x="1242" y="78"/>
                  <a:pt x="953" y="227"/>
                </a:cubicBezTo>
                <a:cubicBezTo>
                  <a:pt x="663" y="376"/>
                  <a:pt x="423" y="590"/>
                  <a:pt x="255" y="847"/>
                </a:cubicBezTo>
                <a:cubicBezTo>
                  <a:pt x="88" y="1105"/>
                  <a:pt x="0" y="1397"/>
                  <a:pt x="0" y="1694"/>
                </a:cubicBezTo>
                <a:cubicBezTo>
                  <a:pt x="0" y="1991"/>
                  <a:pt x="88" y="2284"/>
                  <a:pt x="255" y="2541"/>
                </a:cubicBezTo>
                <a:cubicBezTo>
                  <a:pt x="423" y="2799"/>
                  <a:pt x="663" y="3012"/>
                  <a:pt x="953" y="3161"/>
                </a:cubicBezTo>
                <a:cubicBezTo>
                  <a:pt x="1242" y="3310"/>
                  <a:pt x="1571" y="3388"/>
                  <a:pt x="1906" y="3388"/>
                </a:cubicBezTo>
                <a:cubicBezTo>
                  <a:pt x="2240" y="3388"/>
                  <a:pt x="2569" y="3310"/>
                  <a:pt x="2858" y="3161"/>
                </a:cubicBezTo>
                <a:cubicBezTo>
                  <a:pt x="3148" y="3012"/>
                  <a:pt x="3388" y="2799"/>
                  <a:pt x="3556" y="2541"/>
                </a:cubicBezTo>
                <a:cubicBezTo>
                  <a:pt x="3723" y="2284"/>
                  <a:pt x="3811" y="1992"/>
                  <a:pt x="3811" y="1695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 flipV="1">
            <a:off x="822240" y="2057400"/>
            <a:ext cx="609840" cy="68580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1830240" y="211932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3718080" y="1981080"/>
            <a:ext cx="762120" cy="533520"/>
          </a:xfrm>
          <a:prstGeom prst="rect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501120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0" y="928"/>
                </a:moveTo>
                <a:lnTo>
                  <a:pt x="650" y="2261"/>
                </a:lnTo>
                <a:lnTo>
                  <a:pt x="2553" y="1332"/>
                </a:lnTo>
                <a:lnTo>
                  <a:pt x="1903" y="0"/>
                </a:lnTo>
                <a:lnTo>
                  <a:pt x="0" y="928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98560" y="3124080"/>
            <a:ext cx="914400" cy="380880"/>
          </a:xfrm>
          <a:prstGeom prst="ellipse">
            <a:avLst/>
          </a:pr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2316960" y="3113640"/>
            <a:ext cx="825480" cy="563040"/>
          </a:xfrm>
          <a:custGeom>
            <a:avLst/>
            <a:gdLst/>
            <a:ahLst/>
            <a:rect l="0" t="0" r="r" b="b"/>
            <a:pathLst>
              <a:path w="2293" h="1564">
                <a:moveTo>
                  <a:pt x="35" y="165"/>
                </a:moveTo>
                <a:lnTo>
                  <a:pt x="35" y="165"/>
                </a:lnTo>
                <a:cubicBezTo>
                  <a:pt x="33" y="169"/>
                  <a:pt x="31" y="172"/>
                  <a:pt x="29" y="176"/>
                </a:cubicBezTo>
                <a:cubicBezTo>
                  <a:pt x="-16" y="257"/>
                  <a:pt x="-9" y="365"/>
                  <a:pt x="49" y="490"/>
                </a:cubicBezTo>
                <a:cubicBezTo>
                  <a:pt x="108" y="614"/>
                  <a:pt x="216" y="751"/>
                  <a:pt x="362" y="885"/>
                </a:cubicBezTo>
                <a:cubicBezTo>
                  <a:pt x="509" y="1019"/>
                  <a:pt x="688" y="1147"/>
                  <a:pt x="884" y="1255"/>
                </a:cubicBezTo>
                <a:cubicBezTo>
                  <a:pt x="1079" y="1364"/>
                  <a:pt x="1282" y="1449"/>
                  <a:pt x="1474" y="1502"/>
                </a:cubicBezTo>
                <a:cubicBezTo>
                  <a:pt x="1665" y="1555"/>
                  <a:pt x="1838" y="1574"/>
                  <a:pt x="1974" y="1558"/>
                </a:cubicBezTo>
                <a:cubicBezTo>
                  <a:pt x="2111" y="1541"/>
                  <a:pt x="2206" y="1490"/>
                  <a:pt x="2251" y="1409"/>
                </a:cubicBezTo>
                <a:cubicBezTo>
                  <a:pt x="2253" y="1405"/>
                  <a:pt x="2255" y="1401"/>
                  <a:pt x="2257" y="1398"/>
                </a:cubicBezTo>
                <a:lnTo>
                  <a:pt x="2257" y="1398"/>
                </a:lnTo>
                <a:cubicBezTo>
                  <a:pt x="2259" y="1394"/>
                  <a:pt x="2261" y="1391"/>
                  <a:pt x="2263" y="1387"/>
                </a:cubicBezTo>
                <a:cubicBezTo>
                  <a:pt x="2308" y="1306"/>
                  <a:pt x="2301" y="1198"/>
                  <a:pt x="2243" y="1073"/>
                </a:cubicBezTo>
                <a:cubicBezTo>
                  <a:pt x="2184" y="949"/>
                  <a:pt x="2076" y="812"/>
                  <a:pt x="1930" y="678"/>
                </a:cubicBezTo>
                <a:cubicBezTo>
                  <a:pt x="1783" y="544"/>
                  <a:pt x="1604" y="416"/>
                  <a:pt x="1408" y="308"/>
                </a:cubicBezTo>
                <a:cubicBezTo>
                  <a:pt x="1213" y="199"/>
                  <a:pt x="1010" y="114"/>
                  <a:pt x="818" y="61"/>
                </a:cubicBezTo>
                <a:cubicBezTo>
                  <a:pt x="627" y="8"/>
                  <a:pt x="454" y="-11"/>
                  <a:pt x="318" y="5"/>
                </a:cubicBezTo>
                <a:cubicBezTo>
                  <a:pt x="181" y="22"/>
                  <a:pt x="86" y="73"/>
                  <a:pt x="41" y="154"/>
                </a:cubicBezTo>
                <a:cubicBezTo>
                  <a:pt x="39" y="158"/>
                  <a:pt x="37" y="162"/>
                  <a:pt x="35" y="165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870360" y="3276720"/>
            <a:ext cx="533880" cy="305280"/>
          </a:xfrm>
          <a:custGeom>
            <a:avLst/>
            <a:gdLst/>
            <a:ahLst/>
            <a:rect l="0" t="0" r="r" b="b"/>
            <a:pathLst>
              <a:path fill="none" w="1483" h="848">
                <a:moveTo>
                  <a:pt x="1483" y="848"/>
                </a:moveTo>
                <a:lnTo>
                  <a:pt x="1483" y="848"/>
                </a:lnTo>
                <a:lnTo>
                  <a:pt x="1483" y="848"/>
                </a:lnTo>
                <a:cubicBezTo>
                  <a:pt x="1483" y="699"/>
                  <a:pt x="1414" y="553"/>
                  <a:pt x="1284" y="424"/>
                </a:cubicBezTo>
                <a:cubicBezTo>
                  <a:pt x="1154" y="295"/>
                  <a:pt x="967" y="188"/>
                  <a:pt x="741" y="114"/>
                </a:cubicBezTo>
                <a:cubicBezTo>
                  <a:pt x="516" y="39"/>
                  <a:pt x="260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1336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0" y="716"/>
                </a:moveTo>
                <a:lnTo>
                  <a:pt x="1258" y="1502"/>
                </a:lnTo>
                <a:lnTo>
                  <a:pt x="1258" y="1502"/>
                </a:lnTo>
                <a:lnTo>
                  <a:pt x="1258" y="1502"/>
                </a:lnTo>
                <a:cubicBezTo>
                  <a:pt x="1337" y="1376"/>
                  <a:pt x="1356" y="1216"/>
                  <a:pt x="1313" y="1038"/>
                </a:cubicBezTo>
                <a:cubicBezTo>
                  <a:pt x="1271" y="861"/>
                  <a:pt x="1169" y="671"/>
                  <a:pt x="1017" y="489"/>
                </a:cubicBezTo>
                <a:cubicBezTo>
                  <a:pt x="865" y="307"/>
                  <a:pt x="669" y="138"/>
                  <a:pt x="448" y="0"/>
                </a:cubicBezTo>
                <a:lnTo>
                  <a:pt x="448" y="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031760" y="3828960"/>
            <a:ext cx="667080" cy="628920"/>
          </a:xfrm>
          <a:custGeom>
            <a:avLst/>
            <a:gdLst/>
            <a:ahLst/>
            <a:rect l="0" t="0" r="r" b="b"/>
            <a:pathLst>
              <a:path fill="none" w="1853" h="1747">
                <a:moveTo>
                  <a:pt x="52" y="370"/>
                </a:moveTo>
                <a:lnTo>
                  <a:pt x="105" y="582"/>
                </a:lnTo>
                <a:lnTo>
                  <a:pt x="105" y="1112"/>
                </a:lnTo>
                <a:lnTo>
                  <a:pt x="158" y="1429"/>
                </a:lnTo>
                <a:lnTo>
                  <a:pt x="158" y="1588"/>
                </a:lnTo>
                <a:lnTo>
                  <a:pt x="264" y="1747"/>
                </a:lnTo>
                <a:lnTo>
                  <a:pt x="582" y="1747"/>
                </a:lnTo>
                <a:lnTo>
                  <a:pt x="1006" y="1641"/>
                </a:lnTo>
                <a:lnTo>
                  <a:pt x="1165" y="1694"/>
                </a:lnTo>
                <a:lnTo>
                  <a:pt x="1323" y="1535"/>
                </a:lnTo>
                <a:lnTo>
                  <a:pt x="1747" y="1112"/>
                </a:lnTo>
                <a:lnTo>
                  <a:pt x="1853" y="900"/>
                </a:lnTo>
                <a:lnTo>
                  <a:pt x="1694" y="900"/>
                </a:lnTo>
                <a:lnTo>
                  <a:pt x="740" y="953"/>
                </a:lnTo>
                <a:lnTo>
                  <a:pt x="317" y="953"/>
                </a:lnTo>
                <a:lnTo>
                  <a:pt x="52" y="370"/>
                </a:lnTo>
                <a:lnTo>
                  <a:pt x="0" y="0"/>
                </a:lnTo>
                <a:lnTo>
                  <a:pt x="635" y="0"/>
                </a:lnTo>
                <a:lnTo>
                  <a:pt x="1165" y="105"/>
                </a:lnTo>
                <a:lnTo>
                  <a:pt x="1694" y="529"/>
                </a:lnTo>
                <a:lnTo>
                  <a:pt x="1800" y="740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930320" y="380700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335" y="366"/>
                </a:moveTo>
                <a:lnTo>
                  <a:pt x="308" y="583"/>
                </a:lnTo>
                <a:lnTo>
                  <a:pt x="119" y="1076"/>
                </a:lnTo>
                <a:lnTo>
                  <a:pt x="52" y="1390"/>
                </a:lnTo>
                <a:lnTo>
                  <a:pt x="0" y="1540"/>
                </a:lnTo>
                <a:lnTo>
                  <a:pt x="39" y="1726"/>
                </a:lnTo>
                <a:lnTo>
                  <a:pt x="335" y="1840"/>
                </a:lnTo>
                <a:lnTo>
                  <a:pt x="767" y="1893"/>
                </a:lnTo>
                <a:lnTo>
                  <a:pt x="899" y="1999"/>
                </a:lnTo>
                <a:lnTo>
                  <a:pt x="1103" y="1907"/>
                </a:lnTo>
                <a:lnTo>
                  <a:pt x="1650" y="1664"/>
                </a:lnTo>
                <a:lnTo>
                  <a:pt x="1826" y="1505"/>
                </a:lnTo>
                <a:lnTo>
                  <a:pt x="1676" y="1447"/>
                </a:lnTo>
                <a:lnTo>
                  <a:pt x="767" y="1156"/>
                </a:lnTo>
                <a:lnTo>
                  <a:pt x="374" y="1002"/>
                </a:lnTo>
                <a:lnTo>
                  <a:pt x="335" y="366"/>
                </a:lnTo>
                <a:lnTo>
                  <a:pt x="418" y="0"/>
                </a:lnTo>
                <a:lnTo>
                  <a:pt x="1010" y="229"/>
                </a:lnTo>
                <a:lnTo>
                  <a:pt x="1469" y="516"/>
                </a:lnTo>
                <a:lnTo>
                  <a:pt x="1808" y="1103"/>
                </a:lnTo>
                <a:lnTo>
                  <a:pt x="1835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6459120" y="1841040"/>
            <a:ext cx="919080" cy="813960"/>
          </a:xfrm>
          <a:custGeom>
            <a:avLst/>
            <a:gdLst/>
            <a:ahLst/>
            <a:rect l="0" t="0" r="r" b="b"/>
            <a:pathLst>
              <a:path w="2553" h="2261">
                <a:moveTo>
                  <a:pt x="650" y="0"/>
                </a:moveTo>
                <a:lnTo>
                  <a:pt x="0" y="1332"/>
                </a:lnTo>
                <a:lnTo>
                  <a:pt x="1903" y="2261"/>
                </a:lnTo>
                <a:lnTo>
                  <a:pt x="2553" y="928"/>
                </a:lnTo>
                <a:lnTo>
                  <a:pt x="650" y="0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926440" y="3037320"/>
            <a:ext cx="823320" cy="558720"/>
          </a:xfrm>
          <a:custGeom>
            <a:avLst/>
            <a:gdLst/>
            <a:ahLst/>
            <a:rect l="0" t="0" r="r" b="b"/>
            <a:pathLst>
              <a:path w="2287" h="1552">
                <a:moveTo>
                  <a:pt x="2254" y="159"/>
                </a:moveTo>
                <a:lnTo>
                  <a:pt x="2254" y="159"/>
                </a:lnTo>
                <a:cubicBezTo>
                  <a:pt x="2253" y="157"/>
                  <a:pt x="2252" y="156"/>
                  <a:pt x="2251" y="154"/>
                </a:cubicBezTo>
                <a:cubicBezTo>
                  <a:pt x="2206" y="73"/>
                  <a:pt x="2111" y="21"/>
                  <a:pt x="1974" y="5"/>
                </a:cubicBezTo>
                <a:cubicBezTo>
                  <a:pt x="1837" y="-11"/>
                  <a:pt x="1665" y="8"/>
                  <a:pt x="1473" y="61"/>
                </a:cubicBezTo>
                <a:cubicBezTo>
                  <a:pt x="1282" y="114"/>
                  <a:pt x="1078" y="199"/>
                  <a:pt x="883" y="307"/>
                </a:cubicBezTo>
                <a:cubicBezTo>
                  <a:pt x="688" y="415"/>
                  <a:pt x="508" y="543"/>
                  <a:pt x="362" y="677"/>
                </a:cubicBezTo>
                <a:cubicBezTo>
                  <a:pt x="216" y="811"/>
                  <a:pt x="108" y="948"/>
                  <a:pt x="49" y="1072"/>
                </a:cubicBezTo>
                <a:cubicBezTo>
                  <a:pt x="-9" y="1196"/>
                  <a:pt x="-16" y="1305"/>
                  <a:pt x="29" y="1386"/>
                </a:cubicBezTo>
                <a:cubicBezTo>
                  <a:pt x="30" y="1388"/>
                  <a:pt x="31" y="1390"/>
                  <a:pt x="32" y="1392"/>
                </a:cubicBezTo>
                <a:lnTo>
                  <a:pt x="32" y="1392"/>
                </a:lnTo>
                <a:cubicBezTo>
                  <a:pt x="33" y="1394"/>
                  <a:pt x="34" y="1395"/>
                  <a:pt x="35" y="1397"/>
                </a:cubicBezTo>
                <a:cubicBezTo>
                  <a:pt x="80" y="1478"/>
                  <a:pt x="175" y="1530"/>
                  <a:pt x="312" y="1546"/>
                </a:cubicBezTo>
                <a:cubicBezTo>
                  <a:pt x="449" y="1562"/>
                  <a:pt x="621" y="1543"/>
                  <a:pt x="813" y="1490"/>
                </a:cubicBezTo>
                <a:cubicBezTo>
                  <a:pt x="1004" y="1437"/>
                  <a:pt x="1208" y="1352"/>
                  <a:pt x="1403" y="1244"/>
                </a:cubicBezTo>
                <a:cubicBezTo>
                  <a:pt x="1598" y="1136"/>
                  <a:pt x="1778" y="1008"/>
                  <a:pt x="1924" y="874"/>
                </a:cubicBezTo>
                <a:cubicBezTo>
                  <a:pt x="2070" y="740"/>
                  <a:pt x="2178" y="603"/>
                  <a:pt x="2237" y="479"/>
                </a:cubicBezTo>
                <a:cubicBezTo>
                  <a:pt x="2295" y="355"/>
                  <a:pt x="2302" y="246"/>
                  <a:pt x="2257" y="165"/>
                </a:cubicBezTo>
                <a:cubicBezTo>
                  <a:pt x="2256" y="163"/>
                  <a:pt x="2255" y="161"/>
                  <a:pt x="2254" y="159"/>
                </a:cubicBez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5828400" y="3324240"/>
            <a:ext cx="480600" cy="540720"/>
          </a:xfrm>
          <a:custGeom>
            <a:avLst/>
            <a:gdLst/>
            <a:ahLst/>
            <a:rect l="0" t="0" r="r" b="b"/>
            <a:pathLst>
              <a:path fill="none" w="1335" h="1502">
                <a:moveTo>
                  <a:pt x="1335" y="716"/>
                </a:moveTo>
                <a:lnTo>
                  <a:pt x="887" y="0"/>
                </a:lnTo>
                <a:lnTo>
                  <a:pt x="887" y="0"/>
                </a:lnTo>
                <a:lnTo>
                  <a:pt x="887" y="0"/>
                </a:lnTo>
                <a:cubicBezTo>
                  <a:pt x="666" y="138"/>
                  <a:pt x="470" y="307"/>
                  <a:pt x="318" y="489"/>
                </a:cubicBezTo>
                <a:cubicBezTo>
                  <a:pt x="166" y="671"/>
                  <a:pt x="64" y="861"/>
                  <a:pt x="22" y="1038"/>
                </a:cubicBezTo>
                <a:cubicBezTo>
                  <a:pt x="-21" y="1216"/>
                  <a:pt x="-2" y="1376"/>
                  <a:pt x="77" y="1502"/>
                </a:cubicBezTo>
                <a:lnTo>
                  <a:pt x="77" y="1502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2921040" y="3882960"/>
            <a:ext cx="660600" cy="719640"/>
          </a:xfrm>
          <a:custGeom>
            <a:avLst/>
            <a:gdLst/>
            <a:ahLst/>
            <a:rect l="0" t="0" r="r" b="b"/>
            <a:pathLst>
              <a:path fill="none" w="1835" h="1999">
                <a:moveTo>
                  <a:pt x="1500" y="366"/>
                </a:moveTo>
                <a:lnTo>
                  <a:pt x="1526" y="583"/>
                </a:lnTo>
                <a:lnTo>
                  <a:pt x="1716" y="1076"/>
                </a:lnTo>
                <a:lnTo>
                  <a:pt x="1782" y="1390"/>
                </a:lnTo>
                <a:lnTo>
                  <a:pt x="1835" y="1540"/>
                </a:lnTo>
                <a:lnTo>
                  <a:pt x="1795" y="1726"/>
                </a:lnTo>
                <a:lnTo>
                  <a:pt x="1500" y="1840"/>
                </a:lnTo>
                <a:lnTo>
                  <a:pt x="1068" y="1893"/>
                </a:lnTo>
                <a:lnTo>
                  <a:pt x="935" y="1999"/>
                </a:lnTo>
                <a:lnTo>
                  <a:pt x="732" y="1907"/>
                </a:lnTo>
                <a:lnTo>
                  <a:pt x="185" y="1664"/>
                </a:lnTo>
                <a:lnTo>
                  <a:pt x="8" y="1505"/>
                </a:lnTo>
                <a:lnTo>
                  <a:pt x="158" y="1447"/>
                </a:lnTo>
                <a:lnTo>
                  <a:pt x="1068" y="1156"/>
                </a:lnTo>
                <a:lnTo>
                  <a:pt x="1460" y="1002"/>
                </a:lnTo>
                <a:lnTo>
                  <a:pt x="1500" y="366"/>
                </a:lnTo>
                <a:lnTo>
                  <a:pt x="1416" y="0"/>
                </a:lnTo>
                <a:lnTo>
                  <a:pt x="824" y="229"/>
                </a:lnTo>
                <a:lnTo>
                  <a:pt x="366" y="516"/>
                </a:lnTo>
                <a:lnTo>
                  <a:pt x="26" y="1103"/>
                </a:lnTo>
                <a:lnTo>
                  <a:pt x="0" y="133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 flipV="1">
            <a:off x="2363760" y="2195640"/>
            <a:ext cx="879480" cy="257040"/>
          </a:xfrm>
          <a:prstGeom prst="line">
            <a:avLst/>
          </a:prstGeom>
          <a:ln w="126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4098960" y="4114800"/>
            <a:ext cx="1143360" cy="381240"/>
          </a:xfrm>
          <a:custGeom>
            <a:avLst/>
            <a:gdLst/>
            <a:ahLst/>
            <a:rect l="0" t="0" r="r" b="b"/>
            <a:pathLst>
              <a:path w="3176" h="1059">
                <a:moveTo>
                  <a:pt x="0" y="352"/>
                </a:moveTo>
                <a:lnTo>
                  <a:pt x="0" y="705"/>
                </a:lnTo>
                <a:lnTo>
                  <a:pt x="2223" y="705"/>
                </a:lnTo>
                <a:lnTo>
                  <a:pt x="2223" y="1059"/>
                </a:lnTo>
                <a:lnTo>
                  <a:pt x="3176" y="530"/>
                </a:lnTo>
                <a:lnTo>
                  <a:pt x="2223" y="0"/>
                </a:lnTo>
                <a:lnTo>
                  <a:pt x="2223" y="352"/>
                </a:lnTo>
                <a:lnTo>
                  <a:pt x="0" y="352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57272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0" y="1994"/>
                </a:moveTo>
                <a:lnTo>
                  <a:pt x="235" y="2256"/>
                </a:lnTo>
                <a:lnTo>
                  <a:pt x="1889" y="767"/>
                </a:lnTo>
                <a:lnTo>
                  <a:pt x="2125" y="1030"/>
                </a:lnTo>
                <a:lnTo>
                  <a:pt x="2479" y="0"/>
                </a:lnTo>
                <a:lnTo>
                  <a:pt x="1416" y="244"/>
                </a:lnTo>
                <a:lnTo>
                  <a:pt x="1652" y="506"/>
                </a:lnTo>
                <a:lnTo>
                  <a:pt x="0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7217640" y="3999240"/>
            <a:ext cx="892440" cy="812160"/>
          </a:xfrm>
          <a:custGeom>
            <a:avLst/>
            <a:gdLst/>
            <a:ahLst/>
            <a:rect l="0" t="0" r="r" b="b"/>
            <a:pathLst>
              <a:path w="2479" h="2256">
                <a:moveTo>
                  <a:pt x="2479" y="1994"/>
                </a:moveTo>
                <a:lnTo>
                  <a:pt x="2243" y="2256"/>
                </a:lnTo>
                <a:lnTo>
                  <a:pt x="590" y="767"/>
                </a:lnTo>
                <a:lnTo>
                  <a:pt x="353" y="1030"/>
                </a:lnTo>
                <a:lnTo>
                  <a:pt x="0" y="0"/>
                </a:lnTo>
                <a:lnTo>
                  <a:pt x="1062" y="244"/>
                </a:lnTo>
                <a:lnTo>
                  <a:pt x="827" y="506"/>
                </a:lnTo>
                <a:lnTo>
                  <a:pt x="2479" y="1994"/>
                </a:lnTo>
                <a:close/>
              </a:path>
            </a:pathLst>
          </a:custGeom>
          <a:solidFill>
            <a:srgbClr val="00cc99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1189080" y="5267160"/>
            <a:ext cx="1390680" cy="276120"/>
          </a:xfrm>
          <a:prstGeom prst="rect">
            <a:avLst/>
          </a:prstGeom>
          <a:ln w="0">
            <a:noFill/>
          </a:ln>
        </p:spPr>
      </p:pic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2712960" y="5254560"/>
            <a:ext cx="2224080" cy="441360"/>
          </a:xfrm>
          <a:prstGeom prst="rect">
            <a:avLst/>
          </a:prstGeom>
          <a:ln w="0">
            <a:noFill/>
          </a:ln>
        </p:spPr>
      </p:pic>
      <p:pic>
        <p:nvPicPr>
          <p:cNvPr id="150" name="" descr=""/>
          <p:cNvPicPr/>
          <p:nvPr/>
        </p:nvPicPr>
        <p:blipFill>
          <a:blip r:embed="rId3"/>
          <a:stretch/>
        </p:blipFill>
        <p:spPr>
          <a:xfrm>
            <a:off x="5865840" y="3946680"/>
            <a:ext cx="2195640" cy="1463760"/>
          </a:xfrm>
          <a:prstGeom prst="rect">
            <a:avLst/>
          </a:prstGeom>
          <a:ln w="0">
            <a:noFill/>
          </a:ln>
        </p:spPr>
      </p:pic>
      <p:sp>
        <p:nvSpPr>
          <p:cNvPr id="151" name=""/>
          <p:cNvSpPr txBox="1"/>
          <p:nvPr/>
        </p:nvSpPr>
        <p:spPr>
          <a:xfrm>
            <a:off x="6521400" y="822240"/>
            <a:ext cx="9968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bcde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"/>
          <p:cNvSpPr txBox="1"/>
          <p:nvPr/>
        </p:nvSpPr>
        <p:spPr>
          <a:xfrm>
            <a:off x="704880" y="2286000"/>
            <a:ext cx="8007480" cy="1143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100000"/>
              </a:lnSpc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V="1">
            <a:off x="1255680" y="762120"/>
            <a:ext cx="5572080" cy="2057400"/>
          </a:xfrm>
          <a:prstGeom prst="line">
            <a:avLst/>
          </a:prstGeom>
          <a:ln w="507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15200" rIns="115200" tIns="70200" bIns="702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6121440" y="1447920"/>
            <a:ext cx="2039760" cy="1219320"/>
          </a:xfrm>
          <a:prstGeom prst="rect">
            <a:avLst/>
          </a:prstGeom>
          <a:solidFill>
            <a:srgbClr val="cbcbcb"/>
          </a:solidFill>
          <a:ln w="76320">
            <a:solidFill>
              <a:srgbClr val="000000"/>
            </a:solidFill>
            <a:round/>
          </a:ln>
        </p:spPr>
        <p:txBody>
          <a:bodyPr lIns="128160" rIns="128160" tIns="83160" bIns="831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2746440" y="3200400"/>
            <a:ext cx="864000" cy="457560"/>
          </a:xfrm>
          <a:custGeom>
            <a:avLst/>
            <a:gdLst/>
            <a:ahLst/>
            <a:rect l="0" t="0" r="r" b="b"/>
            <a:pathLst>
              <a:path fill="none" w="2400" h="1271">
                <a:moveTo>
                  <a:pt x="2400" y="1271"/>
                </a:moveTo>
                <a:lnTo>
                  <a:pt x="2400" y="1271"/>
                </a:lnTo>
                <a:lnTo>
                  <a:pt x="2400" y="1271"/>
                </a:lnTo>
                <a:cubicBezTo>
                  <a:pt x="2400" y="1048"/>
                  <a:pt x="2289" y="829"/>
                  <a:pt x="2078" y="635"/>
                </a:cubicBezTo>
                <a:cubicBezTo>
                  <a:pt x="1868" y="442"/>
                  <a:pt x="1565" y="282"/>
                  <a:pt x="1200" y="170"/>
                </a:cubicBezTo>
                <a:cubicBezTo>
                  <a:pt x="835" y="59"/>
                  <a:pt x="421" y="0"/>
                  <a:pt x="0" y="0"/>
                </a:cubicBez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4871880" y="2571840"/>
            <a:ext cx="1733760" cy="1460880"/>
          </a:xfrm>
          <a:custGeom>
            <a:avLst/>
            <a:gdLst/>
            <a:ahLst/>
            <a:rect l="0" t="0" r="r" b="b"/>
            <a:pathLst>
              <a:path fill="none" w="4816" h="4058">
                <a:moveTo>
                  <a:pt x="417" y="2170"/>
                </a:moveTo>
                <a:lnTo>
                  <a:pt x="272" y="2735"/>
                </a:lnTo>
                <a:lnTo>
                  <a:pt x="90" y="3265"/>
                </a:lnTo>
                <a:lnTo>
                  <a:pt x="0" y="3617"/>
                </a:lnTo>
                <a:lnTo>
                  <a:pt x="635" y="3617"/>
                </a:lnTo>
                <a:lnTo>
                  <a:pt x="1544" y="3529"/>
                </a:lnTo>
                <a:lnTo>
                  <a:pt x="1635" y="3794"/>
                </a:lnTo>
                <a:lnTo>
                  <a:pt x="1453" y="4058"/>
                </a:lnTo>
                <a:lnTo>
                  <a:pt x="1544" y="3794"/>
                </a:lnTo>
                <a:lnTo>
                  <a:pt x="2454" y="3265"/>
                </a:lnTo>
                <a:lnTo>
                  <a:pt x="2726" y="3265"/>
                </a:lnTo>
                <a:lnTo>
                  <a:pt x="2817" y="2999"/>
                </a:lnTo>
                <a:lnTo>
                  <a:pt x="2817" y="2294"/>
                </a:lnTo>
                <a:lnTo>
                  <a:pt x="2817" y="1588"/>
                </a:lnTo>
                <a:lnTo>
                  <a:pt x="4089" y="0"/>
                </a:lnTo>
                <a:lnTo>
                  <a:pt x="4634" y="0"/>
                </a:lnTo>
                <a:lnTo>
                  <a:pt x="4816" y="529"/>
                </a:lnTo>
                <a:lnTo>
                  <a:pt x="4816" y="1412"/>
                </a:lnTo>
                <a:lnTo>
                  <a:pt x="4271" y="1412"/>
                </a:lnTo>
                <a:lnTo>
                  <a:pt x="3544" y="1500"/>
                </a:lnTo>
                <a:lnTo>
                  <a:pt x="3271" y="1500"/>
                </a:lnTo>
                <a:lnTo>
                  <a:pt x="2999" y="1588"/>
                </a:lnTo>
                <a:lnTo>
                  <a:pt x="1726" y="1764"/>
                </a:lnTo>
                <a:lnTo>
                  <a:pt x="2089" y="1500"/>
                </a:lnTo>
                <a:lnTo>
                  <a:pt x="1817" y="1412"/>
                </a:lnTo>
                <a:lnTo>
                  <a:pt x="1944" y="1747"/>
                </a:lnTo>
              </a:path>
            </a:pathLst>
          </a:custGeom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549360" y="5334120"/>
            <a:ext cx="392400" cy="457560"/>
          </a:xfrm>
          <a:custGeom>
            <a:avLst/>
            <a:gdLst/>
            <a:ahLst/>
            <a:rect l="0" t="0" r="r" b="b"/>
            <a:pathLst>
              <a:path w="1090" h="1271">
                <a:moveTo>
                  <a:pt x="0" y="1271"/>
                </a:moveTo>
                <a:lnTo>
                  <a:pt x="326" y="0"/>
                </a:lnTo>
                <a:lnTo>
                  <a:pt x="763" y="0"/>
                </a:lnTo>
                <a:lnTo>
                  <a:pt x="1090" y="1271"/>
                </a:lnTo>
                <a:lnTo>
                  <a:pt x="0" y="1271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1176480" y="6095880"/>
            <a:ext cx="471960" cy="228960"/>
          </a:xfrm>
          <a:custGeom>
            <a:avLst/>
            <a:gdLst/>
            <a:ahLst/>
            <a:rect l="0" t="0" r="r" b="b"/>
            <a:pathLst>
              <a:path w="1311" h="636">
                <a:moveTo>
                  <a:pt x="655" y="0"/>
                </a:moveTo>
                <a:lnTo>
                  <a:pt x="721" y="181"/>
                </a:lnTo>
                <a:lnTo>
                  <a:pt x="978" y="44"/>
                </a:lnTo>
                <a:lnTo>
                  <a:pt x="860" y="217"/>
                </a:lnTo>
                <a:lnTo>
                  <a:pt x="1226" y="159"/>
                </a:lnTo>
                <a:lnTo>
                  <a:pt x="942" y="283"/>
                </a:lnTo>
                <a:lnTo>
                  <a:pt x="1311" y="317"/>
                </a:lnTo>
                <a:lnTo>
                  <a:pt x="942" y="352"/>
                </a:lnTo>
                <a:lnTo>
                  <a:pt x="1226" y="477"/>
                </a:lnTo>
                <a:lnTo>
                  <a:pt x="859" y="423"/>
                </a:lnTo>
                <a:lnTo>
                  <a:pt x="978" y="594"/>
                </a:lnTo>
                <a:lnTo>
                  <a:pt x="731" y="457"/>
                </a:lnTo>
                <a:lnTo>
                  <a:pt x="649" y="636"/>
                </a:lnTo>
                <a:lnTo>
                  <a:pt x="577" y="457"/>
                </a:lnTo>
                <a:lnTo>
                  <a:pt x="329" y="594"/>
                </a:lnTo>
                <a:lnTo>
                  <a:pt x="448" y="421"/>
                </a:lnTo>
                <a:lnTo>
                  <a:pt x="82" y="479"/>
                </a:lnTo>
                <a:lnTo>
                  <a:pt x="366" y="355"/>
                </a:lnTo>
                <a:lnTo>
                  <a:pt x="0" y="319"/>
                </a:lnTo>
                <a:lnTo>
                  <a:pt x="366" y="283"/>
                </a:lnTo>
                <a:lnTo>
                  <a:pt x="82" y="159"/>
                </a:lnTo>
                <a:lnTo>
                  <a:pt x="448" y="217"/>
                </a:lnTo>
                <a:lnTo>
                  <a:pt x="329" y="43"/>
                </a:lnTo>
                <a:lnTo>
                  <a:pt x="576" y="181"/>
                </a:lnTo>
                <a:lnTo>
                  <a:pt x="655" y="0"/>
                </a:lnTo>
                <a:close/>
              </a:path>
            </a:pathLst>
          </a:cu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9" name=""/>
          <p:cNvGrpSpPr/>
          <p:nvPr/>
        </p:nvGrpSpPr>
        <p:grpSpPr>
          <a:xfrm>
            <a:off x="469800" y="3276720"/>
            <a:ext cx="2433960" cy="3048120"/>
            <a:chOff x="469800" y="3276720"/>
            <a:chExt cx="2433960" cy="3048120"/>
          </a:xfrm>
        </p:grpSpPr>
        <p:sp>
          <p:nvSpPr>
            <p:cNvPr id="160" name=""/>
            <p:cNvSpPr/>
            <p:nvPr/>
          </p:nvSpPr>
          <p:spPr>
            <a:xfrm>
              <a:off x="1098720" y="3276720"/>
              <a:ext cx="941400" cy="533520"/>
            </a:xfrm>
            <a:prstGeom prst="ellipse">
              <a:avLst/>
            </a:pr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1" name=""/>
            <p:cNvSpPr/>
            <p:nvPr/>
          </p:nvSpPr>
          <p:spPr>
            <a:xfrm>
              <a:off x="469800" y="4495680"/>
              <a:ext cx="471960" cy="457560"/>
            </a:xfrm>
            <a:custGeom>
              <a:avLst/>
              <a:gdLst/>
              <a:ahLst/>
              <a:rect l="0" t="0" r="r" b="b"/>
              <a:pathLst>
                <a:path w="1311" h="1271">
                  <a:moveTo>
                    <a:pt x="0" y="1271"/>
                  </a:moveTo>
                  <a:lnTo>
                    <a:pt x="917" y="1271"/>
                  </a:lnTo>
                  <a:lnTo>
                    <a:pt x="1311" y="0"/>
                  </a:lnTo>
                  <a:lnTo>
                    <a:pt x="393" y="0"/>
                  </a:lnTo>
                  <a:lnTo>
                    <a:pt x="0" y="1271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2039760" y="5943600"/>
              <a:ext cx="864000" cy="381240"/>
            </a:xfrm>
            <a:custGeom>
              <a:avLst/>
              <a:gdLst/>
              <a:ahLst/>
              <a:rect l="0" t="0" r="r" b="b"/>
              <a:pathLst>
                <a:path w="2400" h="1059">
                  <a:moveTo>
                    <a:pt x="0" y="530"/>
                  </a:moveTo>
                  <a:lnTo>
                    <a:pt x="479" y="1059"/>
                  </a:lnTo>
                  <a:lnTo>
                    <a:pt x="1921" y="1059"/>
                  </a:lnTo>
                  <a:lnTo>
                    <a:pt x="2400" y="530"/>
                  </a:lnTo>
                  <a:lnTo>
                    <a:pt x="1921" y="0"/>
                  </a:lnTo>
                  <a:lnTo>
                    <a:pt x="479" y="0"/>
                  </a:lnTo>
                  <a:lnTo>
                    <a:pt x="0" y="530"/>
                  </a:lnTo>
                  <a:close/>
                </a:path>
              </a:pathLst>
            </a:custGeom>
            <a:solidFill>
              <a:srgbClr val="cbcbcb"/>
            </a:solidFill>
            <a:ln w="12600">
              <a:solidFill>
                <a:srgbClr val="000000"/>
              </a:solidFill>
              <a:round/>
            </a:ln>
          </p:spPr>
          <p:txBody>
            <a:bodyPr lIns="96120" rIns="96120" tIns="51120" bIns="51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3" name=""/>
          <p:cNvSpPr/>
          <p:nvPr/>
        </p:nvSpPr>
        <p:spPr>
          <a:xfrm>
            <a:off x="1098720" y="838080"/>
            <a:ext cx="1647720" cy="685800"/>
          </a:xfrm>
          <a:prstGeom prst="roundRect">
            <a:avLst/>
          </a:prstGeom>
          <a:solidFill>
            <a:srgbClr val="cbcbcb"/>
          </a:solidFill>
          <a:ln w="12600">
            <a:solidFill>
              <a:srgbClr val="000000"/>
            </a:solidFill>
            <a:round/>
          </a:ln>
        </p:spPr>
        <p:txBody>
          <a:bodyPr lIns="96120" rIns="96120" tIns="51120" bIns="51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 txBox="1"/>
          <p:nvPr/>
        </p:nvSpPr>
        <p:spPr>
          <a:xfrm>
            <a:off x="4064040" y="441360"/>
            <a:ext cx="1133640" cy="4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te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xtb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ox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 txBox="1"/>
          <p:nvPr/>
        </p:nvSpPr>
        <p:spPr>
          <a:xfrm>
            <a:off x="1111320" y="593640"/>
            <a:ext cx="6516720" cy="100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</a:t>
            </a:r>
            <a:r>
              <a:rPr b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bold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talic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Times New Roman"/>
                <a:ea typeface="Times New Roman"/>
              </a:rPr>
              <a:t>underline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hadow</a:t>
            </a:r>
            <a:r>
              <a:rPr b="0" lang="en-US" sz="2400" spc="-1" strike="noStrike">
                <a:solidFill>
                  <a:srgbClr val="00cc99"/>
                </a:solidFill>
                <a:latin typeface="Times New Roman"/>
                <a:ea typeface="Times New Roman"/>
              </a:rPr>
              <a:t>green</a:t>
            </a:r>
            <a:r>
              <a:rPr b="0" lang="en-US" sz="2400" spc="-1" strike="noStrike">
                <a:solidFill>
                  <a:srgbClr val="3333cc"/>
                </a:solidFill>
                <a:latin typeface="Times New Roman"/>
                <a:ea typeface="Times New Roman"/>
              </a:rPr>
              <a:t>blue</a:t>
            </a:r>
            <a:r>
              <a:rPr b="0" lang="en-US" sz="2400" spc="-1" strike="noStrike">
                <a:solidFill>
                  <a:srgbClr val="f8bc7a"/>
                </a:solidFill>
                <a:latin typeface="Times New Roman"/>
                <a:ea typeface="Times New Roman"/>
              </a:rPr>
              <a:t>orang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6</a:t>
            </a: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2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Verdana"/>
              </a:rPr>
              <a:t>verdena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Arial"/>
              </a:rPr>
              <a:t>arial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emboss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imes New Roman"/>
                <a:ea typeface="Times New Roman"/>
              </a:rPr>
              <a:t>sup30%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Times New Roman"/>
                <a:ea typeface="Times New Roman"/>
              </a:rPr>
              <a:t>sub25%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 txBox="1"/>
          <p:nvPr/>
        </p:nvSpPr>
        <p:spPr>
          <a:xfrm>
            <a:off x="704880" y="1981080"/>
            <a:ext cx="80074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rmal field page number </a:t>
            </a:r>
            <a:fld id="{23F23AF4-C7EA-49C3-9250-3548401C6913}" type="slidenum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lt;number&gt;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March 22, 2017 date </a:t>
            </a:r>
            <a:fld id="{52210DF8-8DCA-4F4B-891F-253BB388FDE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3/23/17 7:25 AM</a:t>
            </a:r>
            <a:fld id="{6BAB38C0-BDCF-4B79-93A3-16DDB872D21C}" type="datetime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/28/26</a:t>
            </a:fld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7:25:36 AM</a:t>
            </a:r>
            <a:fld id="{FEAACA36-CD2F-4C3F-8FA7-C82651680BC7}" type="datetime11"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5:36:04 AM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cen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igh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just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50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.5 li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ts val="4000"/>
              </a:lnSpc>
              <a:spcBef>
                <a:spcPts val="479"/>
              </a:spcBef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0 poi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720"/>
              </a:spcBef>
              <a:spcAft>
                <a:spcPts val="96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.3 before, 0.4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spcBef>
                <a:spcPts val="1001"/>
              </a:spcBef>
              <a:spcAft>
                <a:spcPts val="2001"/>
              </a:spcAft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 point before, 20 point af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CP1252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line with t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f8bc7a"/>
              </a:buClr>
              <a:buSzPct val="45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91440" indent="-91440" algn="just">
              <a:lnSpc>
                <a:spcPct val="100000"/>
              </a:lnSpc>
              <a:buClr>
                <a:srgbClr val="000000"/>
              </a:buClr>
              <a:buSzPct val="90000"/>
              <a:buFont typeface="Monotype Sorts"/>
              <a:buChar char=""/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800280"/>
                <a:tab algn="l" pos="857160"/>
                <a:tab algn="l" pos="1200240"/>
                <a:tab algn="l" pos="1657440"/>
                <a:tab algn="l" pos="2114640"/>
                <a:tab algn="l" pos="2628720"/>
                <a:tab algn="l" pos="3029040"/>
                <a:tab algn="l" pos="3314880"/>
                <a:tab algn="l" pos="3714840"/>
                <a:tab algn="l" pos="4114800"/>
                <a:tab algn="l" pos="4343400"/>
                <a:tab algn="l" pos="4857840"/>
                <a:tab algn="l" pos="5143320"/>
                <a:tab algn="l" pos="5657760"/>
                <a:tab algn="l" pos="5886360"/>
                <a:tab algn="l" pos="6229440"/>
                <a:tab algn="l" pos="6514920"/>
                <a:tab algn="l" pos="6629400"/>
                <a:tab algn="l" pos="702936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osnola</dc:creator>
  <dc:description/>
  <dc:language>en-US</dc:language>
  <cp:lastModifiedBy>osnola</cp:lastModifiedBy>
  <cp:revision>0</cp:revision>
  <dc:subject/>
  <dc:title>No Slide Title</dc:title>
</cp:coreProperties>
</file>