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2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29CE62-1A63-4F8A-AA33-3515CA6AA533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9773EAF-D4A8-4643-AD47-06A12A883D5E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5B19BA-2084-425B-9537-B544549831F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EF60891-7C36-489A-9939-DDB73AF9B09C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85A415B-0F2C-48D0-AF05-4E5A815A92E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2C41794-D9DA-4408-AE60-65A2B49C831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C7BDDCC-E8FD-4138-9250-B266786E35B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33FBCFD-18D7-4A7D-87A1-8DC8BD6DA2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79395E-B990-4760-902E-13DB3BD6439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FF6D7DB-FEAE-47D8-8B2E-23E99E319D7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95667A2-535E-4217-A89C-7A10D63216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CA419C7-C8C5-4ED8-8CEB-8EF84EAD889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426"/>
              </a:spcBef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7227360" y="6886440"/>
            <a:ext cx="31942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ct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defRPr>
            </a:lvl1pPr>
          </a:lstStyle>
          <a:p>
            <a:pPr indent="0" algn="r">
              <a:lnSpc>
                <a:spcPct val="92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F8D1B15D-72F7-4241-9767-AB70DA9AAA21}" type="slidenum">
              <a:rPr b="0" lang="hu-HU" sz="1400" spc="-1" strike="noStrike">
                <a:solidFill>
                  <a:srgbClr val="000000"/>
                </a:solidFill>
                <a:latin typeface="Times New Roman"/>
                <a:ea typeface="Segoe UI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3924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4400" spc="-1" strike="noStrike">
                <a:solidFill>
                  <a:srgbClr val="000000"/>
                </a:solidFill>
                <a:latin typeface="Arial"/>
              </a:rPr>
              <a:t>Another title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431640" indent="-323640">
              <a:lnSpc>
                <a:spcPct val="93000"/>
              </a:lnSpc>
              <a:spcBef>
                <a:spcPts val="1426"/>
              </a:spcBef>
              <a:buClr>
                <a:srgbClr val="000000"/>
              </a:buClr>
              <a:buSzPct val="45000"/>
              <a:buFont typeface="Wingdings" charset="2"/>
              <a:buChar char=""/>
              <a:tabLst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hu-HU" sz="3200" spc="-1" strike="noStrike">
                <a:solidFill>
                  <a:srgbClr val="000000"/>
                </a:solidFill>
                <a:latin typeface="Arial"/>
              </a:rPr>
              <a:t>Blah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7-07-03T12:19:51Z</dcterms:created>
  <dc:creator/>
  <dc:description/>
  <dc:language>en-US</dc:language>
  <cp:lastModifiedBy/>
  <dcterms:modified xsi:type="dcterms:W3CDTF">2017-07-03T12:21:07Z</dcterms:modified>
  <cp:revision>1</cp:revision>
  <dc:subject/>
  <dc:title/>
</cp:coreProperties>
</file>