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17D2CF1-17EE-4649-8842-6252EEB5E72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FB8213-A563-4255-9C06-6114D82DC9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801C53-1B03-48E0-A158-97CA92B60E62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9ACD81-3251-4C9E-850F-B23401C4267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FE669A9-5EA2-4582-99DE-89D9748FEA73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C565BC7-E714-49CB-90F6-D37D0805FFD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1835D6-F6B5-4BBE-B412-D993858A482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B9AB542-DA48-4820-B66C-FC1F8101B0C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556D4EA-25DD-404F-981F-CEE2CC1261A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7793468-267D-45A5-9103-43FB8EEDD22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6270CD5-9085-48C0-9061-2500542726B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D4B905-47D1-435C-94F4-AABA7B8D83E9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t">
            <a:normAutofit/>
          </a:bodyPr>
          <a:p>
            <a:pPr marL="343080" indent="0">
              <a:lnSpc>
                <a:spcPct val="93000"/>
              </a:lnSpc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cs-CZ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97C36CD6-934F-40CA-8E7D-B9CDE85855B6}" type="slidenum">
              <a:rPr b="0" lang="cs-CZ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502920" y="301680"/>
            <a:ext cx="9070920" cy="12621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70920" cy="4384800"/>
          </a:xfrm>
          <a:prstGeom prst="rect">
            <a:avLst/>
          </a:prstGeom>
          <a:noFill/>
          <a:ln w="0">
            <a:noFill/>
          </a:ln>
        </p:spPr>
        <p:txBody>
          <a:bodyPr lIns="0" rIns="0" tIns="28080" bIns="0" anchor="ctr">
            <a:noAutofit/>
          </a:bodyPr>
          <a:p>
            <a:pPr indent="0" algn="ctr">
              <a:lnSpc>
                <a:spcPct val="93000"/>
              </a:lnSpc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cs-CZ" sz="3200" spc="-1" strike="noStrike">
                <a:solidFill>
                  <a:srgbClr val="000000"/>
                </a:solidFill>
                <a:latin typeface="Arial"/>
              </a:rPr>
              <a:t>Blah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13-05-14T14:19:28Z</dcterms:created>
  <dc:creator/>
  <dc:description/>
  <dc:language>en-US</dc:language>
  <cp:lastModifiedBy/>
  <cp:revision>0</cp:revision>
  <dc:subject/>
  <dc:title/>
</cp:coreProperties>
</file>