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7733276"/>
        <c:axId val="24012354"/>
      </c:barChart>
      <c:catAx>
        <c:axId val="7733276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24012354"/>
        <c:crosses val="autoZero"/>
        <c:auto val="1"/>
        <c:lblAlgn val="ctr"/>
        <c:lblOffset val="100"/>
        <c:noMultiLvlLbl val="0"/>
      </c:catAx>
      <c:valAx>
        <c:axId val="24012354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7733276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E521D2-A908-4191-88F5-F8615CA1770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8C667-A49C-43C5-98FF-3E4A6D83B96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76DAF5-A829-4996-A904-B806B95BED9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5D8F2C-FC44-4391-8780-09FA468CCE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44219C-8DAB-4AE6-86B7-C80665B6E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8D8EEE-BAF0-408E-8936-DB722657334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470E28-6FF8-4CAD-B863-B7AF6020EF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3DEE15-3970-49E0-B419-108A6B9C65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DA1CB7-3F02-45AA-81F6-672038D3AC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C6D0C6-8867-4474-9FC4-12616F975C3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B1147F-F83F-4A78-93DA-8BF977568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6C6040-5C38-4BCD-A29A-57922DC1DB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1A81D00-0073-4899-B510-0B3D087E7064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