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F16DA-6AD9-41D0-9EA6-D2F1EE09C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6743-1E05-427B-9D72-DFC14E0D2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2401-F1E9-4849-80B0-F5BA60675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6E65-94A3-42CC-A54B-9B76105EB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F708-10A9-42E3-A181-D724B5EF7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95FA-363C-441A-AC56-7210D5031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ADC7-3E96-42A4-9FCE-08F599342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94E9-7ADC-4C50-9FEC-714EF338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ACD8A-16EF-426D-9C0D-BDBE2658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FE77-8F91-4D56-90A2-BF692E239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5784-29EC-4608-8B76-FC7A1D1E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AB68-C2B9-4AAD-AABD-B3AAF3B3F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DF0AC-3639-46CB-8D10-56893C93D1A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17T02:45:31Z</dcterms:created>
  <dc:creator/>
  <dc:description/>
  <dc:language>en-US</dc:language>
  <cp:lastModifiedBy/>
  <cp:revision>0</cp:revision>
  <dc:subject/>
  <dc:title/>
</cp:coreProperties>
</file>