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73813"/>
        <c:axId val="8199018"/>
      </c:barChart>
      <c:catAx>
        <c:axId val="90973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9018"/>
        <c:crosses val="autoZero"/>
        <c:auto val="1"/>
        <c:lblAlgn val="ctr"/>
        <c:lblOffset val="100"/>
        <c:noMultiLvlLbl val="0"/>
      </c:catAx>
      <c:valAx>
        <c:axId val="8199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73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27B1-A39A-4530-8733-8D7A2075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23F-EBAA-43E6-B5CB-42D15F79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C5B-668E-42A3-825D-7113365A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729-25C5-45A6-876C-1F68BB56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262-149E-4EE3-AD84-9B1222CF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41D-C3AA-4D04-BED4-4D2AF8B4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0FB-B672-47A6-8C37-4AFC53AE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D2B-7D47-434E-9544-BB0EA89D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D5D-DA60-4F14-A88A-87F6B71A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310-F5A0-428C-97F0-15B50599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1AA-63C2-4BEB-937D-3FBE5B82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196-C15F-4909-A1C6-0103FA25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ECC44-24F7-495D-A24E-EF01901967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