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13782"/>
        <c:axId val="90948906"/>
      </c:barChart>
      <c:catAx>
        <c:axId val="76213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48906"/>
        <c:crosses val="autoZero"/>
        <c:auto val="1"/>
        <c:lblAlgn val="ctr"/>
        <c:lblOffset val="100"/>
        <c:noMultiLvlLbl val="0"/>
      </c:catAx>
      <c:valAx>
        <c:axId val="90948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13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1F9-90A9-4FC2-90C4-A087D097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0F0-2D29-42DD-8B23-C42C3040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3EC-2A85-41D5-9EA1-ABE80DF9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992-1DD6-4D38-B30B-B1605386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753-E6DE-44CD-9940-A43B252F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EDF-2D25-4F39-83E6-55AA1929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C77-EF44-420E-B07A-4FA946F3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D55-261A-4883-BB92-F35B9678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A2F-5A08-4D3B-9B4F-71936DEA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2920-D807-4192-BB32-7C89E6A6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A50-1C2D-4FB3-BAA7-F64EE61D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4EB-5B48-49A6-A0EB-1EF8C23B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C911B-6F34-42D7-B0B1-2F0AFED266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