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44276"/>
        <c:axId val="17195274"/>
      </c:barChart>
      <c:catAx>
        <c:axId val="37744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95274"/>
        <c:crosses val="autoZero"/>
        <c:auto val="1"/>
        <c:lblAlgn val="ctr"/>
        <c:lblOffset val="100"/>
        <c:noMultiLvlLbl val="0"/>
      </c:catAx>
      <c:valAx>
        <c:axId val="17195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44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0B4-EACD-4E97-A3BF-2C02BC83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24D-2C46-4A23-B4CA-FBA4B006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A58-0D70-4347-B062-5A8270B1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05A-BE67-48F6-8CF7-9AEB26D0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F94-2CC3-4769-A89D-DF9D0393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9D6-61FA-4D55-B6BB-9771658E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5DA-B84C-4EC8-BA48-33753826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4E2-E25A-4825-83B4-35068FDB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02F-3DAB-48C1-A89A-EEF7E08D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0F4-185C-4DAE-BF2C-1C34FF3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DEC-1A0E-466D-BAFE-65A4811E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A02-73A1-4535-9DAF-9219EA9F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2B5B2-2C02-4478-AE76-12B45517C7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