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21952"/>
        <c:axId val="13506231"/>
      </c:barChart>
      <c:catAx>
        <c:axId val="71721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06231"/>
        <c:crosses val="autoZero"/>
        <c:auto val="1"/>
        <c:lblAlgn val="ctr"/>
        <c:lblOffset val="100"/>
        <c:noMultiLvlLbl val="0"/>
      </c:catAx>
      <c:valAx>
        <c:axId val="13506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21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874-464C-4B92-810A-1396C649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118-023B-4CEF-8DCD-B9A8668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8FE-6886-46FE-922A-C0C8075E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043-EA7F-448F-BD36-C2DC4A7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959-5377-48D9-9AFC-897DD2D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B05-4333-4CAC-9518-E01E9F8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C12-2F99-4F6D-BDF1-492DC4B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DA9-F2EA-4EFD-98D7-7B05A58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09D-34C7-4A8B-9288-A2748D1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51F-38ED-4341-BFA1-B85A974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90D-CF08-4880-9638-3D054A35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987-F1A8-4783-89E6-08750AF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D211-C18A-418A-BED1-26F48128D5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