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836411"/>
        <c:axId val="83348123"/>
      </c:barChart>
      <c:catAx>
        <c:axId val="868364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348123"/>
        <c:crosses val="autoZero"/>
        <c:auto val="1"/>
        <c:lblAlgn val="ctr"/>
        <c:lblOffset val="100"/>
        <c:noMultiLvlLbl val="0"/>
      </c:catAx>
      <c:valAx>
        <c:axId val="833481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364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3493-0D8D-454E-A66A-B74C19E3A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905E-5DDC-416D-9D08-B503B65E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0557-3DE6-41CA-B932-40352F4C3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FB86-F4DE-4FF2-B010-328FC9DD2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29AF-8EB4-4E13-8C05-4E623881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825D-2676-4045-A457-FB419902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0BF6-4D55-461F-87EC-2A881C76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7EA0-3C0F-4BEF-9CCC-97C7537A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CEA2-D2DD-40FC-B3FC-0974D030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5CE4-49BE-499F-8FCD-6D3EF9DB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24D7-D679-476E-85F3-246E4DA1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AAC5-A435-4E57-88F2-5936B319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4DD67-42E2-468A-AE8E-AC60BC44E2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