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64127"/>
        <c:axId val="81700857"/>
      </c:barChart>
      <c:catAx>
        <c:axId val="46464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00857"/>
        <c:crosses val="autoZero"/>
        <c:auto val="1"/>
        <c:lblAlgn val="ctr"/>
        <c:lblOffset val="100"/>
        <c:noMultiLvlLbl val="0"/>
      </c:catAx>
      <c:valAx>
        <c:axId val="81700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64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01E-CE29-440E-89F1-CCBF4A39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7E4-0421-45B2-8DB9-2238FFD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AB9-AB21-4C50-AFCD-AC342348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1F9-069B-417E-A678-9AB1D307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044-F472-4413-954C-9764854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974-830B-44E9-BFF4-2AC0069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9B4-8AB6-4697-B54C-0D7A028B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67F-6613-4D1D-8487-A7BD708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985-814D-4A39-8D19-191BE44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EB2-ACEF-4C9A-A9D1-67705C4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42D-C1DA-4B80-94E6-165FBA0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734-C4FE-4F1C-8F4F-2DBE03E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00FE-6710-4682-B7CD-66B69AF51F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