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56961"/>
        <c:axId val="32022232"/>
      </c:barChart>
      <c:catAx>
        <c:axId val="71756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22232"/>
        <c:crosses val="autoZero"/>
        <c:auto val="1"/>
        <c:lblAlgn val="ctr"/>
        <c:lblOffset val="100"/>
        <c:noMultiLvlLbl val="0"/>
      </c:catAx>
      <c:valAx>
        <c:axId val="32022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56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237-64A3-44C6-B630-AC3A8AAA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551-62A2-4DB4-AC42-6E35BB16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B63-BC16-4103-809C-83991C30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DE7-2EDF-4A42-A5FC-03100421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0BC-E2E9-49C9-A62A-CA27406B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6FC-91A8-426D-A84D-5B1466AA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676-9550-485C-B9DA-ECDC612E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F55-19F5-421D-893E-F1985218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D68-A5F4-4FB6-BBEE-2A15736C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CD8-0CF4-4A9B-88B8-50FF34E2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25C-25AE-470B-B069-21A17380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7AA-200E-4E6E-8201-7A3579A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626DD-A554-4884-90A4-DC7D34E9F8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