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79940"/>
        <c:axId val="61221760"/>
      </c:barChart>
      <c:catAx>
        <c:axId val="79979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21760"/>
        <c:crosses val="autoZero"/>
        <c:auto val="1"/>
        <c:lblAlgn val="ctr"/>
        <c:lblOffset val="100"/>
        <c:noMultiLvlLbl val="0"/>
      </c:catAx>
      <c:valAx>
        <c:axId val="61221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79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845-47BE-45B0-A6FC-4DEDB58F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4AD-96E0-4E1A-9D6C-2FE0758F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DF5-4C91-4AEC-A6B4-6A425CC7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9B2-01AF-4BBD-9A27-BFDB70B6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EE5-3CC2-4935-A4CE-B8C84037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9C1-4642-4FB9-8953-1204DBAB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F54-8F59-43CF-94F0-E0B0363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32F-873D-4956-83D8-86255FD0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52A-2037-4D80-A7E9-38160430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D0E-300E-4DEA-B6FA-42C553F7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2D3-4768-4CED-B28D-D0DC25F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0A56-6C22-4E77-9B8E-D27ED61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95B79-89FF-4F03-9BE3-BAC98DD445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