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74708"/>
        <c:axId val="19076777"/>
      </c:barChart>
      <c:catAx>
        <c:axId val="53074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76777"/>
        <c:crosses val="autoZero"/>
        <c:auto val="1"/>
        <c:lblAlgn val="ctr"/>
        <c:lblOffset val="100"/>
        <c:noMultiLvlLbl val="0"/>
      </c:catAx>
      <c:valAx>
        <c:axId val="19076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74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A6B-F8DD-4D6D-B662-FC67A5C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6B8-A22D-450E-AC74-790DBE5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F10-43CF-4B00-A1F7-447935F7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106-029F-4FFC-A798-822D66CD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40D-1399-4DDE-8BA8-3BD11B0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343-372A-4E3C-B5BB-46331EE0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56B-37E3-40DF-BCE3-86619C8A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F05-7C6E-4944-B731-BB52E6E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CAC-390E-4EC1-B647-38809C0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5AC-73E9-4065-BE8D-3B9B1AA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F64-C8B4-408F-BAF5-2A60FA1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072-BB74-4A85-85E2-6DC4E79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0D78-3F1E-4977-BABC-68FB5D52DE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