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39729"/>
        <c:axId val="8559595"/>
      </c:barChart>
      <c:catAx>
        <c:axId val="93397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59595"/>
        <c:crosses val="autoZero"/>
        <c:auto val="1"/>
        <c:lblAlgn val="ctr"/>
        <c:lblOffset val="100"/>
        <c:noMultiLvlLbl val="0"/>
      </c:catAx>
      <c:valAx>
        <c:axId val="85595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97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FC83-AD7C-4D93-B78C-BEFBDC5D7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444E-CE75-4C55-922C-78344730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2C5D-640A-40F5-9653-F7D5055A9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06EB-B0AA-49CE-9B6F-6F916E88D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06D5-04C3-44A1-867B-6BBD6A9C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57C1-76B6-4A50-9EF7-B4FCA01A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CEFD-E082-4459-9AF1-776A2EDF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0358-AFE2-4406-89BF-B0F287A7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D67B-4641-4FBC-B26E-FFCF4522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684F-C09C-463D-961D-BC9FF7D2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9CB2-501F-42BC-A351-04802886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9806-A4FF-4147-934E-CD438B75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4F735-F25B-4A24-8B08-34B926F7DB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