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06603"/>
        <c:axId val="92691043"/>
      </c:barChart>
      <c:catAx>
        <c:axId val="20306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1043"/>
        <c:crosses val="autoZero"/>
        <c:auto val="1"/>
        <c:lblAlgn val="ctr"/>
        <c:lblOffset val="100"/>
        <c:noMultiLvlLbl val="0"/>
      </c:catAx>
      <c:valAx>
        <c:axId val="92691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06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C7C-5474-48F2-9313-569D6676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D27-13A9-48AA-A704-74F2F6E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E9A-7844-44AB-857D-2D5E7637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651-0B0C-422C-ADC8-0CBFB318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A49-2895-48D7-B4D3-6F92C67D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686-A453-4481-A9C8-86DFA3F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ADF-A7A7-4AFE-9DBE-2AC32BC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D63-D324-4AE1-A688-19D904A5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939-FE9F-4EBD-A142-388DE5C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13D-C0E3-41A2-B358-187D28C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A20-7160-4BA0-A11B-06DBA02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55D-C180-40D4-AFB2-4E0962C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7F89B-0C6A-4A56-9A9A-1DF9A287C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