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01793"/>
        <c:axId val="90383654"/>
      </c:barChart>
      <c:catAx>
        <c:axId val="16101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83654"/>
        <c:crosses val="autoZero"/>
        <c:auto val="1"/>
        <c:lblAlgn val="ctr"/>
        <c:lblOffset val="100"/>
        <c:noMultiLvlLbl val="0"/>
      </c:catAx>
      <c:valAx>
        <c:axId val="90383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01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987-CDD6-432F-86DC-D56578AA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49D9-9547-4C94-93F4-BAA72C8A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A37-E418-41B0-B66B-51819D84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F50-1158-4F35-8487-C75C976C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7EB-07A6-464F-9002-2882D3D0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D07-8EB8-419D-9DDB-452CB692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03D-3241-44CC-8243-65AEB337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399-F7A0-45AB-87FC-9DFA71FC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B84-EC69-49C1-AC6F-2DE3D6B4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DFF-99C3-4394-BCC7-E4CB75A4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88A-3824-4C84-9BD0-2342ABEC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1CA-5174-4106-AF0B-5CEA4B3C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D0F8D-E030-480A-BF03-3AAFF2A61E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