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89313"/>
        <c:axId val="61461289"/>
      </c:barChart>
      <c:catAx>
        <c:axId val="63989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1289"/>
        <c:crosses val="autoZero"/>
        <c:auto val="1"/>
        <c:lblAlgn val="ctr"/>
        <c:lblOffset val="100"/>
        <c:noMultiLvlLbl val="0"/>
      </c:catAx>
      <c:valAx>
        <c:axId val="61461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89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5B2-12FF-4A10-91E2-27B38B95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9BB-B592-4EDF-AEA3-E4788F5A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6B0-8A83-4A29-818F-0F090ABA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5CC-E59B-4CA2-BED2-9DBB3FA0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564-6D3E-4098-B2EB-20949097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A18-6716-4A39-AD1D-1E9EAD65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5DE-1FCE-4101-8E20-2AACC955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EBA-3476-4405-B10B-7D2F0B91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D15-BD67-401F-9201-F0898CBB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EB6-ABAE-474D-B62C-0D544451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A7E-FCB3-4CB1-9D32-2A57BC3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958-BE24-448D-A0E8-779DBFE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947F3-84D5-48EE-A542-8E9EC4A4FB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