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808978"/>
        <c:axId val="64731888"/>
      </c:barChart>
      <c:catAx>
        <c:axId val="548089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731888"/>
        <c:crosses val="autoZero"/>
        <c:auto val="1"/>
        <c:lblAlgn val="ctr"/>
        <c:lblOffset val="100"/>
        <c:noMultiLvlLbl val="0"/>
      </c:catAx>
      <c:valAx>
        <c:axId val="647318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8089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F654-7A2E-4488-BE0C-E6AC03E3D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1A25-28DF-438A-9FD5-9968DC7F9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3F9C-232D-4B1C-9738-63F77C68A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875A-4DE4-40B4-97BE-E0BEF2738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D74C-D457-4839-9942-9DD68D64B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F48F-2E92-4103-9A0D-045871E3F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19B2-756B-42CC-A297-9F38FE197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B8E6-0B11-43A8-8B47-007436D6B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33AA-48A9-40D1-9AC1-479A3EE99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20C2-56AF-4FE6-B4C3-757470D5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C7C4-659B-42AA-8672-926F238A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C38F-A82A-48CE-9166-5274C4D6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5744FD-C254-4032-AC15-94DFF013EDB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