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71547"/>
        <c:axId val="33003336"/>
      </c:barChart>
      <c:catAx>
        <c:axId val="11071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3336"/>
        <c:crosses val="autoZero"/>
        <c:auto val="1"/>
        <c:lblAlgn val="ctr"/>
        <c:lblOffset val="100"/>
        <c:noMultiLvlLbl val="0"/>
      </c:catAx>
      <c:valAx>
        <c:axId val="33003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71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45F-D690-4B57-B3CB-47628196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FBB-9D03-4611-B278-485F0E76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892-C37E-470B-A2A6-577E819F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E62-D16C-4E81-A33A-B4E6CDCF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567-D2AC-4019-8F27-1C1DE0D1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940-523F-4FA3-BC6A-80275506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D3B-99F5-46E0-AE1D-D991EB20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DC8-85C0-4435-8F83-8A8B0A9A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3D6-796A-40E7-A063-0462DC55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A1A-33E0-4802-A43C-78AAB8F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DD0-B385-4ADE-B252-24B7E2F6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283-8D1D-4FE9-933F-579440CA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99FB6-E634-4BE1-ADDC-8C11E357AD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