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01232"/>
        <c:axId val="17031169"/>
      </c:barChart>
      <c:catAx>
        <c:axId val="11701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31169"/>
        <c:crosses val="autoZero"/>
        <c:auto val="1"/>
        <c:lblAlgn val="ctr"/>
        <c:lblOffset val="100"/>
        <c:noMultiLvlLbl val="0"/>
      </c:catAx>
      <c:valAx>
        <c:axId val="17031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01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100-A8DA-4FAB-ABF3-A1A5433F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559-120D-4EB8-863D-2FB71CE6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EA0-1DB3-45DC-B015-C9F4D459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E3E-39F0-43A2-858E-FB6E9EFB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6CC-13B8-45E4-802D-C6E93064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4D4-B8AE-4C23-9395-525A3830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551-9666-4EB6-B0CA-1E5198AA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E0B-85A4-4EAB-A8F5-45FC3A80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0A1-4D27-4F86-97F1-8994A012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36C-7684-42AF-BC9A-91276D2B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B8C-9761-4F17-86DD-AA6641E7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5A7-D00E-4B7F-8B71-E8251B09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5998C-A091-4D21-B232-CA7F51F1D7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