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329934"/>
        <c:axId val="96949305"/>
      </c:barChart>
      <c:catAx>
        <c:axId val="873299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49305"/>
        <c:crosses val="autoZero"/>
        <c:auto val="1"/>
        <c:lblAlgn val="ctr"/>
        <c:lblOffset val="100"/>
        <c:noMultiLvlLbl val="0"/>
      </c:catAx>
      <c:valAx>
        <c:axId val="969493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299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C564-D11C-4D3D-AE0E-E698F826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DE43-6FC8-4E77-9CD4-1BB9A39A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FC48-9A7F-49D5-8EA4-9D3EA8F1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F50D-FD0C-4027-A74D-C1E448DE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9AAB-AF66-4C8C-AF82-7248CA55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03F0-8ADB-4248-B4C2-3522EBF6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704E-4862-4C46-A87E-FB1ACF55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A49E-B927-42C4-B666-FE7CCC41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CB73-B3D1-4ADD-9BAF-0C944FC5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52AE-2892-4D9B-B508-94F51966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3383-9C31-4EF3-8C60-38E9D4A6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E518-4AF4-40E6-9389-B5847FBD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DD225-AB1C-46B2-BDD9-2D09702681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