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88649"/>
        <c:axId val="84892192"/>
      </c:barChart>
      <c:catAx>
        <c:axId val="11488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2192"/>
        <c:crosses val="autoZero"/>
        <c:auto val="1"/>
        <c:lblAlgn val="ctr"/>
        <c:lblOffset val="100"/>
        <c:noMultiLvlLbl val="0"/>
      </c:catAx>
      <c:valAx>
        <c:axId val="84892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88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738-1454-4FCD-BB80-628392C1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51E-A3C4-46E1-8B9C-7726F9EA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D4E-CB0E-4251-AE61-D2D458A8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B55-D84F-44B7-9820-65D63333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308-17C9-44C3-BE43-5BCAD266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DA7-4818-4967-A269-1B0F7B5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C9E-A96A-4B32-9252-8B3FBAFC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2EA-295F-4C25-AF13-F2EBF93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16F-05B2-49B4-9815-94EA0326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5CA-0A02-48A5-9C84-9FC57DD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06E-FC45-4BDD-934F-D7A1DC46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D20-FFBC-445F-B895-2C0F582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55D12-3321-403E-8B3F-7487E95BC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