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97679"/>
        <c:axId val="24741985"/>
      </c:barChart>
      <c:catAx>
        <c:axId val="77197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41985"/>
        <c:crosses val="autoZero"/>
        <c:auto val="1"/>
        <c:lblAlgn val="ctr"/>
        <c:lblOffset val="100"/>
        <c:noMultiLvlLbl val="0"/>
      </c:catAx>
      <c:valAx>
        <c:axId val="24741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97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696-FBCE-47AC-A147-C0E16FF2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56E-FDF1-4979-8DCF-E63A49FE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4FB3-6E15-492D-BB30-05279B32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B362-6B91-4A90-A8B5-2B288E90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BCF-51B5-4569-B8A9-EE53C6C1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EAC-573A-4AC9-9F6C-63D344CF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167B-1933-4845-8F3E-FD69FEA6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966-D743-4F62-807F-DC46747A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0FC-0388-481A-A703-CC6D6091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91E-3F4D-4EAC-B4AB-06B1AFB4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79A-F928-4085-98E4-02EEAB45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604-2782-4839-AE7A-51D710DC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A7652-EE41-453B-91A3-3F2A3B9938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